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CEC10-B5D0-46DF-BEF7-BEBF5D8FA1F9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88C41-7545-43F8-B572-091B42E131DE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DC7A7-8CAC-42B6-9C75-F327FA388305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B72DC-CD34-4982-9ABB-3C2F5395CB96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80E41-F7DA-4F2C-8904-A89D8F48FF25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FAADB-3F55-4118-AC04-9E82D2D143C8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4AFA2-3A21-4220-B72F-D06268BB817B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CEAE1-BEFB-4348-8A89-01BBDB26889D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5D8FB-771F-4215-B40E-597629DE46C1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71211-6069-4FFB-9F19-3B81DF9A800A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1FEE1-91ED-4AE5-BB35-E1F0AF3701FD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B7E37-F44C-48F6-AC37-8C69CBF39934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1A6F7-534D-44CB-94EA-DB640ADC73BC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573C-5644-430F-A735-858829C61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A280-8D2D-4228-9A92-D532E70A9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15F2-C299-4164-873A-E968612F2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10BF-07B5-488D-A2D8-6A6DBB462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1768A-D0E1-4C19-A657-6D8861BB8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0D7DF-C7C4-454B-96FC-4E96F3B4B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2A91D-60F4-4E1B-9E41-7DD14C5B5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60FC0-DB31-4D07-AE0B-6FF3A6770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1B407-A4E9-484A-B061-7A3CC4F5B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88023-8F84-46DA-B5EE-AD48AC9A0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F9DF6-787B-4787-8AD2-B81A16B44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5CD3-F86B-4C8F-8F7C-BF85F7D0F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0FA12-B350-4FD4-808E-A30DE4BBA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0CA91-F5F6-400F-88CE-1369A359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80878-3CCE-4544-AD45-AA03C022B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8FED6-64BC-446E-BF90-726BC7729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5A25D-18DA-4E47-92EC-0CFDC544F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AC7D2-BDDD-4784-A302-176C619A3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0AF5A-29AB-4514-94B0-A9E1119F9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9694B-4579-4A30-BA22-83ABD0EC4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D6525-2F67-4BCB-9D39-7940A4C96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C6495-03CF-41DA-9E75-267B745BE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0185-4ED7-4175-A726-5BE0E9A20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1C442-EF41-4A57-B278-2D30A9DA6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485D4-D39F-4549-BF89-5076DA27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B0AD5-3910-492B-B6BC-3AE251890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1B608-6CD6-421D-A696-5E6C9E4DE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67694-AD3F-47BE-B8C5-15AB50504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C901A-33B3-4F22-9909-B1084D8A1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2AFE9-70EF-41C1-9792-B71C0D032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B322F-D26B-48AD-BB45-D366681D0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9C06F-1015-4B61-BE6B-479D3AA1C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3D898-355B-492D-8ADC-285EC0A11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96D9-C119-4BCF-A60D-B98644384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F9074-6B84-423B-843B-ADF0A712F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7CE02-5EED-4CC3-BE0A-4D2F20FC2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F9290-F1EB-49CC-9113-07660934F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F385F-2B2E-4D90-BD5A-CC118F528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5C071-E4D4-4E05-B569-44D922DA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FE9B2-FA8D-4247-924C-368E2814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EB96C-B939-42FA-878F-6F442E404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AFA16-B8D9-4DD1-B01E-4B4EA34AD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F31AF-1803-4BB8-BAE7-43FE4C093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EF1B3-DD6F-4376-B4A9-D976E66B0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7DF9-766D-44F9-B712-77BEC9A4C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ECAA90-F12B-4C7A-9CA9-A03ECD2AF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6F73E-84C2-4A5E-A6E4-96B801C78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A5009-B9DB-478F-8117-C221BB397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3F4CC-4A41-498A-A120-45B3ED423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71352-5E00-4997-A884-61602166B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2E94CB-2087-450D-B5B7-90F70A190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4D6722-35D4-4A7E-B7E6-D2D938EF5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A0585A-F96E-4533-9811-428E6924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C493C5-0BF4-4D5C-A8F7-D6FD98C94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58AC73-8E5B-40CA-9DD8-9C6EA5A06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13E5-098E-45BA-9733-E6DCCD9C8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CF8FA2-8932-482E-AA72-DE0861AF6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054065-90C5-4A4F-B4A0-FDD660C89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FC19F6-A1A2-44F7-BB11-EBC85E558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FE64A0-E2CF-4904-B3C3-C127A6811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91BE21-7A96-49A1-9840-47DA993EE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1AF89B-C416-4623-ADCC-824AA2B0A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07ED3E-BC5C-4E8F-A6AC-E9C2918B8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4B7D5E-1733-4D56-974A-B077062B6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2B0D06-4ADF-40B5-9AB8-8C798722B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293694-50F9-4783-9953-D8D17716E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72D6-A1F1-4C63-8B19-3CC36D2DF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B1EE1C-E57E-427D-ABDE-EFB33CCE6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B5B7E7-1263-4CB6-8B1C-D207B8EA8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A69B9E-5F71-46B3-B603-3050A31A1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32805A-ECAE-49E4-A764-8869A31F6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2CDFBA-AE71-49E1-B987-38F91555F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3FAECF-73D8-4014-940E-045B6197D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99607B-DC37-4A8F-B6D3-152D837FA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EDEF8E-2D15-4E8E-8DAE-DAD7DFC4C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55BC35-87DA-4F4A-9B02-3AD52BC9C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32250F-6B81-4E89-A590-0A498F11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93E0-9762-495A-9C7E-A4CA7392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84CC25-848E-4951-A5F0-21668F4E5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0FD16F-0878-4B46-867F-E6A83A4C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E9F7CB-6353-42EE-AB3E-95757D56D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575051-0CCC-49AC-A279-96D5829BC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4B0D10-7F18-4840-A644-71D320D31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0FF4-24F5-43D3-B59F-7BF53363F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82867-5749-40E9-8170-EC8E3DCC325F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A984F-567C-46F7-867D-4F92229778BA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2A0FB-A80F-442A-8577-6BA50D6A3B36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FBB92-9203-4343-9794-FE889D545BF4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D2B65-AF99-4A26-9584-40B6AD03B251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81441-4B17-4C83-9C9E-67166D3DBEDD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520" y="1217520"/>
            <a:ext cx="128880" cy="131400"/>
            <a:chOff x="8516520" y="1217520"/>
            <a:chExt cx="12888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78080" y="1217520"/>
              <a:ext cx="673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520" y="1282680"/>
              <a:ext cx="950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8080" y="1282320"/>
              <a:ext cx="673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520" y="1370160"/>
            <a:ext cx="128880" cy="131400"/>
            <a:chOff x="8669520" y="1370160"/>
            <a:chExt cx="12888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31080" y="1370160"/>
              <a:ext cx="673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520" y="1435320"/>
              <a:ext cx="954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31080" y="1434960"/>
              <a:ext cx="673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400" y="1473120"/>
            <a:ext cx="128880" cy="131400"/>
            <a:chOff x="8321400" y="1473120"/>
            <a:chExt cx="12888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82960" y="1473120"/>
              <a:ext cx="673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400" y="1538280"/>
              <a:ext cx="950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82960" y="1537920"/>
              <a:ext cx="673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285D8-0CB2-4F68-814E-58771943154B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cjena isplativosti ulaganja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terna stopa prinos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Diskontna stopa koja izjednačava  sadašnju vrijednost novčanih tokova sa početnom investicijom (NSV=0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Kriterijum prihvatanja:  IRR mora biti veća od granične stope prinosa, tj.minimalne stope prinosa (troška kapitala)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Nedostaci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Promjena diskontne stop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Višestruke IRR (česte promjene znaka u novčanim tokovima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deks profitabilnosti (PI)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914400" y="1784520"/>
          <a:ext cx="7772400" cy="25952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371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od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vcani to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nozila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S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272.7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)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446.2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)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296.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)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320.5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335.5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  <p:sp>
        <p:nvSpPr>
          <p:cNvPr id="414" name="TextBox 4"/>
          <p:cNvSpPr/>
          <p:nvPr/>
        </p:nvSpPr>
        <p:spPr>
          <a:xfrm>
            <a:off x="533520" y="454968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I = {CF1/(1+k)+CF2/(1+k)</a:t>
            </a:r>
            <a:r>
              <a:rPr b="0" lang="sr-Latn-C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+ …..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+ CFn/(1+k)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ⁿ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}/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CO – inicijalni tok nov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F1, CF2… CFn – godisnji tokovi nov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I = {30,000/(1+0.1)+32,000/(1+0.1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 32,000/(1+0.1)</a:t>
            </a:r>
            <a:r>
              <a:rPr b="0" lang="sr-Latn-CS" sz="1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40,000/(1+0.1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}/100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I =1.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deks profitabilnosti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914040" y="1828800"/>
            <a:ext cx="7924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Kriterijum: veci od 1</a:t>
            </a: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 – znači da je NSV </a:t>
            </a:r>
            <a:r>
              <a:rPr b="0" lang="sr-Latn-CS" sz="3000" spc="-1" strike="noStrike">
                <a:solidFill>
                  <a:srgbClr val="ffffff"/>
                </a:solidFill>
                <a:latin typeface="Calibri"/>
                <a:ea typeface="Times New Roman"/>
              </a:rPr>
              <a:t>&gt;0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  <a:ea typeface="Times New Roman"/>
              </a:rPr>
              <a:t>Nedostatak: relativna profitabilnos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Ocjena isplativosti ulaganj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etode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10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Period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povr</a:t>
            </a: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aćaja investicij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10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terna stopa prinos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10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to sada</a:t>
            </a: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š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ja vrijednost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10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deks profitabilnosti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1eeff"/>
                </a:solidFill>
                <a:latin typeface="Calibri"/>
              </a:rPr>
              <a:t>Period povraćaja investicij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Broj godina potreban da se vrati početna investicija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Kriterijum prihvatanja: rok povraćaja mora biti manji od maksimalno prihvatljivog rok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Nedostaci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Ne razmatra novčane tokove nakon isteka roka povraćaja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Zanemaruje vremensku vrijednost novca (jednostavna metoda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Maskimalno prihvatljiv rok povraćaja je subjektivan izbor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Mora se koristiti paralelno sa drugim metodama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1eeff"/>
                </a:solidFill>
                <a:latin typeface="Calibri"/>
              </a:rPr>
              <a:t>Period povraćaja investicij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914400" y="1784520"/>
          <a:ext cx="7772400" cy="259524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371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god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tok nov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rezulta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 1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1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e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,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6,9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e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,0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3,8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e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,2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5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,3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,7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,3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6,0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  <p:sp>
        <p:nvSpPr>
          <p:cNvPr id="382" name="TextBox 4"/>
          <p:cNvSpPr/>
          <p:nvPr/>
        </p:nvSpPr>
        <p:spPr>
          <a:xfrm>
            <a:off x="762120" y="480060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((10,000 – (3,100 + 3,090 + 3,250))/3,320 = (10,000 – 9,440)/3,320 = 560/3,320 = 0.1</a:t>
            </a:r>
            <a:r>
              <a:rPr b="0" lang="sr-Latn-CS" sz="1800" spc="-1" strike="noStrike">
                <a:solidFill>
                  <a:srgbClr val="ffffff"/>
                </a:solidFill>
                <a:latin typeface="Corbe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3 + 0.1</a:t>
            </a:r>
            <a:r>
              <a:rPr b="0" lang="sr-Latn-CS" sz="1800" spc="-1" strike="noStrike">
                <a:solidFill>
                  <a:srgbClr val="ffffff"/>
                </a:solidFill>
                <a:latin typeface="Corbel"/>
              </a:rPr>
              <a:t>7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= 3.1</a:t>
            </a:r>
            <a:r>
              <a:rPr b="0" lang="sr-Latn-CS" sz="1800" spc="-1" strike="noStrike">
                <a:solidFill>
                  <a:srgbClr val="ffffff"/>
                </a:solidFill>
                <a:latin typeface="Corbel"/>
              </a:rPr>
              <a:t>7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god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Corbel"/>
              </a:rPr>
              <a:t>O,17*12=2,04  (2 mjeseca i o,04*30= 1,2 dan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Corbel"/>
              </a:rPr>
              <a:t>Period povraćaja investicije iznosi 3 godine, 2 mjeseca i  1 d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Neto sada</a:t>
            </a:r>
            <a:r>
              <a:rPr b="0" lang="sr-Latn-CS" sz="4000" spc="-1" strike="noStrike">
                <a:solidFill>
                  <a:srgbClr val="c1eeff"/>
                </a:solidFill>
                <a:latin typeface="Calibri"/>
              </a:rPr>
              <a:t>š</a:t>
            </a: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nja vrijednos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Najrasprostranjenija metod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Sistem diskontovanog novčanog tok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Sadašnja vrijednost neto novčanih tokova iz projekta umanjena za početnu investiciju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Diskontna stopa – trošak kapitala; zahtijevana stopa prinos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Kriterijum prihvatanja  - veća od nul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Tržišna cijena akcija se mijenja za iznos NSV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Ako je NSV nula, tržišna cijena se ne mijenj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1eeff"/>
                </a:solidFill>
                <a:latin typeface="Consolas"/>
              </a:rPr>
              <a:t>Neto sadašnja vrijednost</a:t>
            </a:r>
            <a:br>
              <a:rPr sz="4000"/>
            </a:br>
            <a:r>
              <a:rPr b="0" lang="sr-Latn-CS" sz="3000" spc="-1" strike="noStrike">
                <a:solidFill>
                  <a:srgbClr val="c1eeff"/>
                </a:solidFill>
                <a:latin typeface="Consolas"/>
              </a:rPr>
              <a:t>Diskontna stopa</a:t>
            </a:r>
            <a:endParaRPr b="0" lang="en-US" sz="3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Ponderisani prosjek = 0,2*20% + 0,8*2% = 5,6%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(20 + 2)/ 2 = 11%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Neto sada</a:t>
            </a:r>
            <a:r>
              <a:rPr b="0" lang="sr-Latn-CS" sz="4000" spc="-1" strike="noStrike">
                <a:solidFill>
                  <a:srgbClr val="c1eeff"/>
                </a:solidFill>
                <a:latin typeface="Calibri"/>
              </a:rPr>
              <a:t>š</a:t>
            </a: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nja vrijednos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Prednosti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Vremenska vrijednost novc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Mjeri rizik budućih priliv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Prikazuje apsolutnu vrijednost koju generiše projekat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Nedostaci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Jednostavnost metode (ne pokazuje kada se dostiže pozitivna vrijednost, u kojoj godini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Pretpostavka o neograničenim sredstvima (nema kapitalnog racionisanja). Ukoliko su sredstva ograničena nije bitna samo NSV, već i investicija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Diskontni faktor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9144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100 + 100*0.08= 108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100*(1+0.08) = 108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100 = Sada</a:t>
            </a: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šnja vrijednos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108 = Buduća vrijednos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Ako je period duži od godinu dan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1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0" y="8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Rectangle 6"/>
          <p:cNvSpPr/>
          <p:nvPr/>
        </p:nvSpPr>
        <p:spPr>
          <a:xfrm>
            <a:off x="0" y="1200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Picture 9" descr=""/>
          <p:cNvPicPr/>
          <p:nvPr/>
        </p:nvPicPr>
        <p:blipFill>
          <a:blip r:embed="rId1"/>
          <a:stretch/>
        </p:blipFill>
        <p:spPr>
          <a:xfrm>
            <a:off x="0" y="457200"/>
            <a:ext cx="1076400" cy="46656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8" descr=""/>
          <p:cNvPicPr/>
          <p:nvPr/>
        </p:nvPicPr>
        <p:blipFill>
          <a:blip r:embed="rId2"/>
          <a:stretch/>
        </p:blipFill>
        <p:spPr>
          <a:xfrm>
            <a:off x="0" y="1380960"/>
            <a:ext cx="1619280" cy="4669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7" descr=""/>
          <p:cNvPicPr/>
          <p:nvPr/>
        </p:nvPicPr>
        <p:blipFill>
          <a:blip r:embed="rId3"/>
          <a:stretch/>
        </p:blipFill>
        <p:spPr>
          <a:xfrm>
            <a:off x="0" y="2305080"/>
            <a:ext cx="2085840" cy="476280"/>
          </a:xfrm>
          <a:prstGeom prst="rect">
            <a:avLst/>
          </a:prstGeom>
          <a:ln w="0">
            <a:noFill/>
          </a:ln>
        </p:spPr>
      </p:pic>
      <p:sp>
        <p:nvSpPr>
          <p:cNvPr id="397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Rectangle 11"/>
          <p:cNvSpPr/>
          <p:nvPr/>
        </p:nvSpPr>
        <p:spPr>
          <a:xfrm>
            <a:off x="0" y="9237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Rectangle 12"/>
          <p:cNvSpPr/>
          <p:nvPr/>
        </p:nvSpPr>
        <p:spPr>
          <a:xfrm>
            <a:off x="0" y="1847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ectangle 13"/>
          <p:cNvSpPr/>
          <p:nvPr/>
        </p:nvSpPr>
        <p:spPr>
          <a:xfrm>
            <a:off x="0" y="2781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1" name="Picture 16" descr=""/>
          <p:cNvPicPr/>
          <p:nvPr/>
        </p:nvPicPr>
        <p:blipFill>
          <a:blip r:embed="rId4"/>
          <a:stretch/>
        </p:blipFill>
        <p:spPr>
          <a:xfrm>
            <a:off x="1295280" y="4114800"/>
            <a:ext cx="2057400" cy="8920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15" descr=""/>
          <p:cNvPicPr/>
          <p:nvPr/>
        </p:nvPicPr>
        <p:blipFill>
          <a:blip r:embed="rId5"/>
          <a:stretch/>
        </p:blipFill>
        <p:spPr>
          <a:xfrm>
            <a:off x="1066680" y="5410080"/>
            <a:ext cx="2743200" cy="7905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4" descr=""/>
          <p:cNvPicPr/>
          <p:nvPr/>
        </p:nvPicPr>
        <p:blipFill>
          <a:blip r:embed="rId6"/>
          <a:stretch/>
        </p:blipFill>
        <p:spPr>
          <a:xfrm>
            <a:off x="4800600" y="5486400"/>
            <a:ext cx="3048120" cy="69516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Rectangle 18"/>
          <p:cNvSpPr/>
          <p:nvPr/>
        </p:nvSpPr>
        <p:spPr>
          <a:xfrm>
            <a:off x="0" y="9237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Rectangle 19"/>
          <p:cNvSpPr/>
          <p:nvPr/>
        </p:nvSpPr>
        <p:spPr>
          <a:xfrm>
            <a:off x="0" y="1847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Rectangle 20"/>
          <p:cNvSpPr/>
          <p:nvPr/>
        </p:nvSpPr>
        <p:spPr>
          <a:xfrm>
            <a:off x="0" y="2781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Neto sada</a:t>
            </a:r>
            <a:r>
              <a:rPr b="0" lang="sr-Latn-CS" sz="4000" spc="-1" strike="noStrike">
                <a:solidFill>
                  <a:srgbClr val="c1eeff"/>
                </a:solidFill>
                <a:latin typeface="Calibri"/>
              </a:rPr>
              <a:t>š</a:t>
            </a: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nja vrijednos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914400" y="1784520"/>
          <a:ext cx="7924680" cy="2835000"/>
        </p:xfrm>
        <a:graphic>
          <a:graphicData uri="http://schemas.openxmlformats.org/drawingml/2006/table">
            <a:tbl>
              <a:tblPr/>
              <a:tblGrid>
                <a:gridCol w="1981080"/>
                <a:gridCol w="1981440"/>
                <a:gridCol w="1981080"/>
                <a:gridCol w="198108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od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vcani to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nozila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S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272.7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)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446.2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)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296.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)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320.5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S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335.5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20:04:31Z</dcterms:created>
  <dc:creator>Miki</dc:creator>
  <dc:description/>
  <dc:language>en-US</dc:language>
  <cp:lastModifiedBy>User</cp:lastModifiedBy>
  <dcterms:modified xsi:type="dcterms:W3CDTF">2019-02-19T13:20:29Z</dcterms:modified>
  <cp:revision>35</cp:revision>
  <dc:subject/>
  <dc:title>Finansijski menadzmet</dc:title>
</cp:coreProperties>
</file>