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13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0B3A-F8AA-471E-BBB7-EE32265C29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F778-56C4-4A7E-8280-E9B85FE48C1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D46B-B0E1-4112-AB36-CE2B33AD38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FE9-D3FC-4935-912E-2A50B05730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73B8-EA4C-4C04-8FA4-6104C4F98F9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A0C-FF3F-45F4-BD8D-CD6F346E21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09D0-4648-4F86-8F69-880F07AE5E9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521A-03EE-4D99-B190-269C2F1DF9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D2A-5CBF-4296-B78D-063F2FB5A4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7924-FA7C-46A9-8412-EA2132F8C5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53C-CE86-4EE1-B58E-53D4386F49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F7E4-E8E3-410A-9560-545044FE17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9ED8-2331-4E77-9593-E80DD2D599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CD9-D8AF-46EB-9E23-76DBAA361B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F02A-1ACD-491D-8997-9F1DF666BB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4B5-AA8C-421D-BB78-5EA92CB479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6F6-7968-4F04-A71B-F107A8DF4D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6F1-9363-4FA9-A11A-335D8BCB6E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F72-53FF-4ACC-93BB-9788E185D0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8E4-62E3-4883-9BF4-59754A0497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9014-7B08-46AC-9FED-36193BF4F1C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B77-2B0D-4B53-A372-28CB977B67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7CC3-5190-4975-96C0-A0E7A6DA10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685C-6967-4554-AACC-6B4B7AF4D7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0E4-340E-48B3-AE65-E654C727D0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934-6360-4A47-AB95-42E225F58B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F06-7F7C-4FCB-BC0F-530C9419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C1E-C939-47E8-922E-12E5F0E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EDC-8D3C-4CB7-912D-377320C8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B3A-109C-450A-82BB-C218DA03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786-9D9E-46C2-9FB7-BD40330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F41-4CE5-492C-A101-AD3572C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E10-A378-4AC9-86B4-F7800926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893-D242-496D-AE36-BCD0131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81E-47BD-468B-8639-2D10AF2D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681-81A7-42FA-918E-7D4245D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91A-02B1-4A90-ACED-2070F05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D3A-C3B4-4461-8119-8FE31231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269E-810A-45DB-93F1-EEE3E3F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D44A-7B98-4DC0-9B93-327B511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6B8-42A0-4174-AB1B-0FC6B02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3153-F933-4ABF-9C4B-AB5D7B05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68C-F46B-4E5B-AE60-47CDEA54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83A4-5C01-47E1-8385-4F528744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125F-E247-426F-93A3-BF7FC9B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9FB5-8C06-4626-96A5-C3A86B8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7895-A7FD-427D-BBB8-34AE0FC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BFEC-FDAB-4A5A-8FFA-0717607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CF9-B6DE-410C-84B5-E99FD2AB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1B22-1761-40D5-B2F8-50EC335D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2CAD-E12D-4390-B80F-DF376C8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3B0D-A322-48F9-B653-A86D461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75CE-D75F-4904-BDC6-72A30C9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9446-4571-4A4C-9040-8109C84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3B25-3186-4D33-9478-D1D1DF00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2F73-7863-4E42-9393-B726734A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04F4-F622-485E-AA9A-249CC811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8099-DDCD-4313-9E13-B2BCF46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0727-6495-486C-B211-C3604ED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E94-7BFE-4DE6-BCF3-D9B2091B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70F5-79C0-4AD0-9613-47A4EB9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1913-3F06-4CBE-9F43-A3E1B89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EC8A-4FA7-41FF-AECA-0B55E25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6B2A-355A-4423-930D-2979089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5A55-80BF-4A09-B396-B5B2002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A48A-405F-4071-9C5D-C937C83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5889-ACEC-4FAC-90A3-1FB0D75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BA79-B45F-47AC-BFA5-98C7628D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6935-5700-475B-A3C7-4D419961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7D4E-20F0-4BD6-8BB3-1B8A377A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175-C4EC-445C-9B21-F109296C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962A-CC01-445C-95D7-2AC58FCF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F0F3-0091-4DF7-9244-0B5CB6B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F0C8-7AE4-479F-B0D4-6B30679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A7D4-9EC2-4AED-BAB2-F6E3D0D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55E0-0A18-491C-BF53-2A88955F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AD16-3752-4027-AA15-BE8F1DA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33B32-F3EA-4DCF-94D6-57975CD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1174A-DA90-4498-AB54-20A6E78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0A30-A420-4227-B67A-A3F45C9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A4FB-530A-4883-B780-6F467436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343-DDB7-46DD-AF18-64D055A9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E815-2738-4FCA-AB39-8EBA2611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73EA-B759-4BDA-8C43-F66AFCB0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576A-93AE-43C4-BA7A-6E11647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C5CF-0682-44F2-BD30-C149D48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C61A-8CA7-4AA2-BE69-219D14F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1350-93E3-4FDC-9325-B0A03945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85143-E087-4CF4-AF85-931B59A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7DF3-9595-4E33-9A47-3B3CF14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A7D6-ECBF-48E7-8E86-381A626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31CB-FE27-4ADD-B930-4AB41D7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8CB-13AD-4898-B633-0C0E3B7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266E-6390-4A6F-AC97-34ABC23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E8A5-9BCC-4F47-9665-6CFC023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E88B-C28A-4BDD-8023-7B38993A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9C24-3D78-4097-A68D-5F040A3C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F4CC3-812F-45CA-A562-B2E4979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33CD-A3EF-4D21-A3F2-BE4DAA7A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161A-20FB-4BD7-839F-B035948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4BCC-EF91-4237-9D13-43591ED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848BB-AD6C-4513-B70A-FA5A7BDE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4A13-A830-4A86-81C1-EBB5D644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D92-4896-45C3-BE9F-22F1323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6FEE-921C-4280-8BF7-EF6CC3B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4251-B3EB-476E-B2B4-C6F8682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C2B3-1535-47EA-BBBE-2025E7E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DAD4-233B-41A2-80F5-FF0FD6A3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81FE5-A462-47DE-B459-65C2622E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D7D89-4CF9-49AF-AFEE-5552DC6C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46E5-B432-4990-A4CB-15F6E55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2915C-4636-4476-83A1-703F4489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BC8F-7055-43BE-97DA-5EF0FECA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F9370-4203-4659-9013-2E9F6A8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A53-3543-45CE-8DC9-DBBF35EF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B5D6F-9587-4F32-98C0-3375E65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9DB9F-0767-475A-8951-E629450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7BB2-F8D0-43DC-BBED-272E5F2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B746-30AC-4BF2-9DEC-C4FC26D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89201-AF5C-4D67-A9A8-A2121E71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85A6-D0A9-4516-94C5-8DB80C87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4D8FA-75B4-44B3-A5A2-E898F869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34D8-BC33-4B70-8600-7A80FBCCC5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5B4E-20FF-4BF3-8ED9-DEC2B931715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4051-A178-485C-B9A9-C3A28B6FB4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D74-9116-42EC-A756-B7D4589904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ED4-F358-47F9-89EA-D25B7DD7D2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FBF9-3036-440C-8163-9D497064D0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021-BC1E-48F0-A688-6D0E49301C9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D37-9B00-4618-A919-01C769457EE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 aktivnosti (obrta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K= E / M,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 – efekat, M – ma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kupac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zalih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dobavljac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ukupnih obrtnih sredsta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neto obrtnih sredsta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osnovnih sredsta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ukupnih poslovnih sredsta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obrta sopstvenih sredsta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ukupnih poslovnih sredsta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101520" y="3343320"/>
                <a:ext cx="8902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ukupnih  poslovnih 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na poslovna sredstv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304920" y="3890880"/>
                <a:ext cx="8458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ukupnih poslovnih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na poslovna sredstv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0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377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807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sopstvenih sredsta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544680" y="3343320"/>
                <a:ext cx="80136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sopstvenih 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na sopstvena sredstv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pstvena   sredstv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upisani kapital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erasporedjena dobi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zerv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4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609480" y="3890880"/>
                <a:ext cx="7531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sopstvenih 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na sopstvena  sredstv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0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23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finansijske strukture (zaduzenos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dnos pozajmljenih prema ukupnim i sopstvenim izvorima finansiranj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dnos sopstvenih prema ukupnim izvorima finansiranj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epen sigur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pokrica rashoda kam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eficijent pokrica ukupnog dug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dnos pozajmljenih prema ukupnim i sopstvenim izvorima finansiranj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; stepen samostalnosti i sigur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228600" y="2362320"/>
                <a:ext cx="8726400" cy="41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dnos pozajmljenih  prema  ukupnim  izvorim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ozajmljeni  izvor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ukupni  izvor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nos  sopstvenih  prema  ukupnim  izvorim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opstveni  izvor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ukupni  izvor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en sigur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opstveni izvor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ozajmljeni  izvor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nos dugorocnog  duga  prema  sopstvenim  izvorim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gorocni  dugov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opstveni  izvor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nso dugorocnog  duga  prema  ukupnoj  kapitalizacij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gorocni dugov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ugorocni izvor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2" name="Content Placeholder 3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24852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422280" y="3124080"/>
                <a:ext cx="8255160" cy="35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dnos pozajmljenih  prema  ukupnim  izvorima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ozajmljeni izvor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ukupni izvor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,0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,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en samostalnosti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 ili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en sigur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5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nos  dugorocnog  duga  prema  sopstvenim  izvorima ?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nos  dugorocnog  duga  prema  ukupnoj  kapitalizaciji?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pokrica rashoda kam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297080" y="3984480"/>
                <a:ext cx="6383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oeficijent pokrica rashoda  kamat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slovni dobit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ashodi kamat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380880" y="3581280"/>
                <a:ext cx="83502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pokrica  rashoda  kamat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oslovni dobita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shodi kamat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457200" y="1481040"/>
          <a:ext cx="8381880" cy="33958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4050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AK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PAS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e46d0a"/>
                          </a:solidFill>
                          <a:latin typeface="Calibri"/>
                        </a:rPr>
                        <a:t>31.12.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aterijalna ulagan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isani kapi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novna sredst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asporedjena dob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li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gorocni kredi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tkorocni kredi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tov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vlja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UKUP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87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8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UKUP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87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8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    </a:t>
                      </a:r>
                      <a:r>
                        <a:rPr b="1" lang="sr-Latn-CS" sz="13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30,0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4"/>
          <p:cNvSpPr/>
          <p:nvPr/>
        </p:nvSpPr>
        <p:spPr>
          <a:xfrm>
            <a:off x="914400" y="53341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a osnovu podataka iz bilansa ispitati trend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vi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kupa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685800" y="3090960"/>
                <a:ext cx="754380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obrta kupac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i od prodaj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saldo kupac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sjecan period naplat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eficijent obrta kupac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racio opšte likvidnosti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obrtna sredstva / kratkoročne obave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godin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racio opšte likvidnos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007      1.54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006      1.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005      1.29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004       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. Preduzece treba da kupi brod vrijedan 20,000 (2007. godina). Postoje opcije da je plati odmah u gotovom, da se finansira kratkoročnim ili dugoročnim kreditom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Sa stanovišta opšte likvidnosti, koji je najpovoljiniji način nabavke brod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6868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Plaćanje gotovinom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Osnovna sredstva = 130,000 + 20,000 = 15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Gotovina = 90,000 - 20,000 = 70,000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Latn-CS" sz="1700" spc="-1" strike="noStrike">
                <a:solidFill>
                  <a:srgbClr val="ff0000"/>
                </a:solidFill>
                <a:latin typeface="Lucida Sans Unicode"/>
              </a:rPr>
              <a:t>Racio opšte likvidnosti     1.42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Odloženo plaćanj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Osnovna sredstva = 130,000 + 20,000 = 15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Dobavljači = 92,000 + 20,000 = 112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ff0000"/>
                </a:solidFill>
                <a:latin typeface="Lucida Sans Unicode"/>
              </a:rPr>
              <a:t>Racio opšte likvidnosti   1.37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Kratkoročni kredit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Osnovna sredstva = 130,000 + 20,000 = 15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Kratkoročni krediti = 70,000 + 20,000 = 90,000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ff0000"/>
                </a:solidFill>
                <a:latin typeface="Lucida Sans Unicode"/>
              </a:rPr>
              <a:t>Racio opšte likvidnosti    1.37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Dugoročni kredit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Osnovna sredstva = 130,000 + 20,000 = 15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Dugoročni krediti = 110,000 + 20,000 = 13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ff0000"/>
                </a:solidFill>
                <a:latin typeface="Lucida Sans Unicode"/>
              </a:rPr>
              <a:t>Racio opšte likvidnosti    1.54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Racio opšte likvidnosti prije kupovine broda je iznosio 1.54 koliko iznosi isti racio kada se mašina finansira dugoročnim kredito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naliza je pokazala da se mora poštovati dugoročna finansijska ravnoteža, tj. dugoročno vezana sredstva finansirati dugoročnim izvor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upovina broda ne smije direktno uticati na kratkoročnu ravnotež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3. Kako na opštu likvidnost utiču sljedeći događaji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3.1.) Preduzeće je uzelo kratkoročni kredit u iznosu od 10,000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Kratkoročni krediti = 70,000 + 10,000 = 8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Gotovina = 90,000 + 10,000 = 10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Racio opšte likvidnosti         1.51    Opšta likvidnost se smanjila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3.2.) Preduzeće je uzelo dugoročni kredit u iznosu od 10,000     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Dugoročni krediti = 110,000 + 10,000 = 12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Gotovina = 90,000 + 10,000 = 100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Racio opšte likvidnosti         1.60    Opšta likvidnost se povećal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3.3.) Preduzeće je nabavilo robu u iznosu od 5,000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Dobavljači = 92,000 + 5,000 = 97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Zalihe = 80,000 + 5,000 = 85,000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Racio opšte likvidnosti          1.53   Opšta likvidnost se smanjil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HVALA NA PAZNJI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1905120" y="3352680"/>
                <a:ext cx="534492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kupac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 od prodaj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 saldo  kupac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2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5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,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rosjecan  period  naplate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zalih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04760" y="2927520"/>
                <a:ext cx="8885160" cy="24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obrta zalih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jena kostanj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saldo zalih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sjecan vrijeme trajanja jednog obrt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eficijent obrta zalih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28800" y="3352680"/>
                <a:ext cx="530388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zalih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jena kostanj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 saldo  zalih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1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5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rosjecan  period  naplate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 da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dobavlja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228600" y="2895480"/>
                <a:ext cx="8489880" cy="21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obrta dobavljac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jena kostanja 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romjene na zaliham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saldo zalih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sjecan vrijeme trajanja jednog obrt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eficijent obrta zalih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Content Placeholder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1520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893880" y="3352680"/>
                <a:ext cx="717552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dobavljac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jena kostanja 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romjene na zaliham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can  saldo  dobavljac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,000 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,000-110,000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0,000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67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,000 -1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7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3,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rosjecan  period  naplate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 dana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 da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obrta osnovnih sredsta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860400" y="3343320"/>
                <a:ext cx="73850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osnovnih 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 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V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snovnih  sredstav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Content Placeholder 3"/>
          <p:cNvGraphicFramePr/>
          <p:nvPr/>
        </p:nvGraphicFramePr>
        <p:xfrm>
          <a:off x="609480" y="1447920"/>
          <a:ext cx="731520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7315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1171440" y="3911760"/>
                <a:ext cx="69058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oeficijent  obrta  osnovnih sredstava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eto priho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V  osnovnih  sredstav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0,000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0,00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8:10:01Z</dcterms:created>
  <dc:creator>Miki</dc:creator>
  <dc:description/>
  <dc:language>en-US</dc:language>
  <cp:lastModifiedBy>User</cp:lastModifiedBy>
  <dcterms:modified xsi:type="dcterms:W3CDTF">2019-02-19T13:14:21Z</dcterms:modified>
  <cp:revision>76</cp:revision>
  <dc:subject/>
  <dc:title>Finansijski menadzment</dc:title>
</cp:coreProperties>
</file>