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wmf" ContentType="image/x-wmf"/>
  <Override PartName="/ppt/media/image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9.wmf" ContentType="image/x-wmf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6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A20F-8383-4329-8C9D-AF32D10BF3C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795F-6B01-4573-BF78-2DA7F2DCB3A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D9F2-56BD-41D4-BE69-2C2CB076A5D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42B0-ECCF-486D-B36E-217840D9C60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C3D0-7EE6-4F1D-9598-D099518CAC1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5C97-8C09-4F8E-91A4-465278A62A8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A11C-2A5B-48CC-A3C1-999A57B26E9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7FBE-E4C1-49FF-85F0-E60CE4F2DF7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C388-F58A-444E-BFDD-707958C9788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233E-FDC5-4505-92BE-0F25A20FC18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599F-7645-4EAE-B120-66C14C94124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0378-2FB8-495A-98EC-529EBAA00D8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6C6A-9049-476F-A4C6-A50D188050B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D6B5-7FE6-4917-B6CB-C4BA80FA208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FED5-681F-4C47-9202-872E543A5A1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E5FF-42D4-4B01-B9CF-42462E78316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8E92-FCB1-41BA-81D0-223C8F87493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52F3-8A43-4853-BF7B-C65875BA18A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7458-EDAC-4FD9-AD2C-5FFD67CDE46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EA0A-566B-4DC6-87A2-0FFBDB33F55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2526-13EB-42D0-9890-44E4CE327BB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B0E4-5532-44ED-94B0-4741CD659EB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28E2-4CFE-422E-A59F-8763360A523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371D-1850-4CE9-B882-BEDAD7463C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52EC-1C55-4164-99BF-CA9997961C5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C37-39D5-41A2-8086-4ABAE519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173-6A7E-415B-BBB5-9846DFF0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F55-F7E4-49ED-B6AE-67392E66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FA1-4B3C-469B-BEA2-BAC081A1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F8B8-F196-4FDB-B02E-7ED87DC5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0262-F3B4-4017-87E1-987AD5E3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16D6-46DA-4DC5-9E3E-93CFD839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EC02-52DC-485F-B5BE-020FFEBA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690E-51EB-4207-8034-BAA7A9F4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2C87-B811-4780-80DA-4803D02E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6EFA-08EA-499A-90BA-3703D27B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75E-1DA3-42F5-B068-49D5434E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B478-A045-474B-B174-79EB5532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2B17-9F23-4C0A-AAC8-FB6A8164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252E-6742-4A1C-AAC1-32B50752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15DC-14EB-4C5F-BE8E-53D2BC6E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94C6-5372-46CA-B923-5F98F3BB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8EE6-6716-413A-85E3-5DE03B57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0F791-2550-4E50-B4CF-565DD52C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72307-1EF7-460B-8203-044A60CC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D80BF-082E-46DE-B0FD-87A9176C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7120-3160-44DD-AF25-0D70B074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877-AC11-42EC-B5C9-4D93F0CF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B2CD1-44DD-4FF4-9E80-4761AE81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9A2F-9881-4228-85C7-C6E7EFA0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6CBC-1A7A-4C37-9ADA-861ACDC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93F16-0F80-49DB-A6FF-AC2968BF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F3EB-ADA8-4982-919D-0E123C8C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D75E-139F-4ECD-819E-1E29BC1D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4F7FE-B5AD-4E10-85E1-6D912376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0FE15-ECC5-487D-93A1-FB5DFAF6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A8CC-DC3D-440C-A7D3-A8C89EDA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D12BA-3B06-4972-8261-89811232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83B-BF30-4E27-9232-A468AAC3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97210-9724-467E-8481-C081E981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455B3-07D1-4041-8E97-9EDEFFDE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D2B2C-C3B0-4C90-96DD-8046B7C6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1DFCD-5956-4ACB-8784-981A284E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4422D-3880-4927-A23D-0DCD4985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DE9BC-B7DC-49F1-91EA-51B0A26D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51602-1F9C-4185-943E-7A1D712A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D4355-2443-4F93-9968-2493AAC3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3C627-6E4D-46EF-99DD-74D0B483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C5574-2F2D-413B-A502-F8491E35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F03-E03D-4D7A-BB2A-A16A2C0B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300E8-81FD-4D9F-8B7F-FDA7D235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92FA2-C3B1-4CD4-9820-94686AA0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CFFF0-BA60-42C0-B1C8-683D08D2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9C3EE-921F-4EA7-B3FD-DFDBBAB2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E1726-603C-47B1-8B24-4760B9D2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B2C8F-EAAC-4791-93C6-02CEEEEE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8311D-30EB-4FB3-9622-A6F5D91F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8108D-42B9-4D28-8EEF-5449602B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01FC5-F7CE-466A-9A22-1A5874C1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F4B74-8F56-4B04-8F33-5F3125A3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6DF-D30A-4F3F-B08B-72186E8B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DB033-3BDA-4B4C-864E-5F264386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C993A-2F4A-420D-8428-B793367D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0AE56-F990-44C5-B63F-A268EACA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452A6-1439-4433-8ED1-41BE7D71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47C96-C5ED-411B-AEF7-DB3AF493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05DD9-F640-40B8-8680-4A58BEE2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5D62D-E8CB-467A-BD2D-85AB7102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5B3C8-7A0C-44F2-A794-08653A7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498A0-B62A-4052-A7CF-740A1A19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88DC1-65E5-4F09-B2B7-7EADCD41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8B9-E8F4-436A-82FC-1FE7DA5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DB711-9D8C-4C10-8603-03957044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6822C-71E1-4C12-BAB4-9E3EDC42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E9964-4E62-4E36-85D3-D281CF59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464D9-8C14-49DF-A01B-378C1E2F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233F7-D9BF-4A06-92F6-9C7A5FB9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1D5B8-A927-418D-A604-8D0EDBE8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75F00-863D-40F7-93D4-AB823BE3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87C43-53FC-40CF-ADBA-047BB435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7EF8-4D69-47B5-B786-2C797FDC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47FEA-2721-4746-9370-D1C0EB43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BF3-4E45-4BA4-9D45-79CD5CB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34795-6ABD-4124-8248-19DE8A71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680E5-00C1-4177-AE81-59CC9B3E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03E3A-2984-4A06-9810-6F1C569B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0D0B1-4A6E-4804-B306-452C96A8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99C34-0497-4360-B67C-2BDEB952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95E16-FE4F-4E87-9C9D-30A9862D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16C85-0AAA-4C3D-A2F7-E5B76BFA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9E8A2-0000-429E-A578-75BFD99F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45553-A4CB-4EFE-8417-32CC05AE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A0F7A-EC9F-40E1-ABB4-1B00825E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C37-13CB-46E4-9FE7-9BD21CCC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ABDAF-15B0-4893-AFDE-EBFCD914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62208-C416-45B1-A52F-81EF3B40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CDB0B-B7AD-4D57-A30F-E1B5E3C7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73EFE-97AA-4219-A721-99240831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B0AD8-1F3E-4177-A990-CB24CF6E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D46DE-F5D4-44D6-8A6B-86266497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F6458-C6F0-413C-B8DC-7FE793C6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BBE4-8151-4507-BD9C-B3018C2F05B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9C16-FE90-4B88-8E2D-CDEFA32F99C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EABB-88B0-4955-A0F7-5CFB2525C3C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8F32-900F-4D79-8439-AF5A983D232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5717-0E5B-4902-86E5-2B00111FDF3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255-1074-4A26-9BEB-442296B9D0E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81A9-A576-4228-BFEA-2003BBD20A6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EFA0-8C31-4B49-AAA0-FEA42CEE7F2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Finansijska analiza 2. d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Content Placeholder 1"/>
          <p:cNvSpPr/>
          <p:nvPr/>
        </p:nvSpPr>
        <p:spPr>
          <a:xfrm>
            <a:off x="609480" y="1633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opa neto prinosa na ukupna  poslovna sredstv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533520" y="3048120"/>
                <a:ext cx="8389800" cy="28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opa  neto prinosa  na  ukupna  poslovna  sredstva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eto  dobitak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rosjecna poslovna sredstva</m:t>
                                </m:r>
                              </m:num>
                              <m:den/>
                            </m:f>
                          </m:e>
                        </m:eqArr>
                      </m:e>
                    </m:eqAr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opa prinosa na sopstvena sredst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665280" y="2362320"/>
                <a:ext cx="798336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opa  prinosa  na  sopstvena  sredstva 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eto  dobita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cna  sopstvena sredstva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9" name="Content Placeholder 3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802656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1447920" y="3276720"/>
                <a:ext cx="5638680" cy="25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opa  prinosa  na  sopstvena  sredstva 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,00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0,000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230,00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,00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80,00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0,000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7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kazatelji tržisne vrijednost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to dobitak po akciji; dividenda po akcij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dnos tržisne cijene po akciji i neto dobitka po akcij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acio plaćanja dividen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videndna stop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njigovodstvena vrijednost po akcij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eto dobitak po akci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videnda po akci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380880" y="2971800"/>
                <a:ext cx="7551720" cy="23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o  dobitak  po  akcij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eto  dobita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roj  izdatih akcij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videnda  po  akcij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roj  izdatih akcij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Content Placeholder 3"/>
          <p:cNvGraphicFramePr/>
          <p:nvPr/>
        </p:nvGraphicFramePr>
        <p:xfrm>
          <a:off x="2286000" y="1676520"/>
          <a:ext cx="3733920" cy="10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Content Placeholder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676520"/>
                    <a:ext cx="37339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143000" y="3290760"/>
                <a:ext cx="7086600" cy="24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o  dobitak  po akcij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,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videnda po akcij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,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dnos tržisne cijene po akciji i neto dobitka po akciji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price/earnings ratio, P/E rati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2" name="Object 2"/>
              <p:cNvSpPr txBox="1"/>
              <p:nvPr/>
            </p:nvSpPr>
            <p:spPr>
              <a:xfrm>
                <a:off x="436680" y="2895480"/>
                <a:ext cx="83390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dnos  trzisne  cijene  po  akciji  i  neto  dobitka  po  akciji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rzisna  cijena  po  akcij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eto  dobitak  po  akcij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4" name="Content Placeholder 3"/>
          <p:cNvGraphicFramePr/>
          <p:nvPr/>
        </p:nvGraphicFramePr>
        <p:xfrm>
          <a:off x="2128680" y="1554120"/>
          <a:ext cx="3208320" cy="8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Content Placeholder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8680" y="1554120"/>
                    <a:ext cx="320832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6" name="Object 3"/>
              <p:cNvSpPr txBox="1"/>
              <p:nvPr/>
            </p:nvSpPr>
            <p:spPr>
              <a:xfrm>
                <a:off x="914400" y="3048120"/>
                <a:ext cx="750240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dnos  trzisne  cijene  po  akciji  i  neto  dobitka  po  akciji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,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,000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Racio plaćanja dividen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304920" y="2717640"/>
                <a:ext cx="8458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cio  placanja  dividend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splacena  dividenda  po  akcij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to  dobitak  po  akcij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41" name="Content Placeholder 3" descr=""/>
          <p:cNvPicPr/>
          <p:nvPr/>
        </p:nvPicPr>
        <p:blipFill>
          <a:blip r:embed="rId2"/>
          <a:stretch/>
        </p:blipFill>
        <p:spPr>
          <a:xfrm>
            <a:off x="1701720" y="1528920"/>
            <a:ext cx="4181400" cy="1393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1752480" y="3352680"/>
                <a:ext cx="388620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acio  placanja  dividende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,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,000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,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,000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kazatelji profi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kazatelji trži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 vrijed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videndna stop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482760" y="2819520"/>
                <a:ext cx="79516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idendna  stopa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videnda  po  akcij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rzisna  cijena  po  akcij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47" name="Content Placeholder 3" descr=""/>
          <p:cNvPicPr/>
          <p:nvPr/>
        </p:nvPicPr>
        <p:blipFill>
          <a:blip r:embed="rId2"/>
          <a:stretch/>
        </p:blipFill>
        <p:spPr>
          <a:xfrm>
            <a:off x="1701720" y="1528920"/>
            <a:ext cx="4181400" cy="1393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990720" y="3505320"/>
                <a:ext cx="70866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idendna  stopa 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,000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njigovodstvena vrijednost  po  akci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457200" y="2930400"/>
                <a:ext cx="769608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njigovodstvena  vrijednost  po  akcij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kupni  sopstveni  kapita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roj  izdatih  obicnih  akcija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53" name="Content Placeholder 3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2536920" cy="914400"/>
          </a:xfrm>
          <a:prstGeom prst="rect">
            <a:avLst/>
          </a:prstGeom>
          <a:ln w="0">
            <a:noFill/>
          </a:ln>
        </p:spPr>
      </p:pic>
      <p:pic>
        <p:nvPicPr>
          <p:cNvPr id="454" name="Object 3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605628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1447920" y="3581280"/>
                <a:ext cx="541008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njigovodstvena  vrijednost  po  akciji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0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,0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,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Sans Unicode"/>
              </a:rPr>
              <a:t>HVALA NA PA</a:t>
            </a:r>
            <a:r>
              <a:rPr b="0" lang="sr-Latn-CS" sz="6000" spc="-1" strike="noStrike">
                <a:solidFill>
                  <a:srgbClr val="000000"/>
                </a:solidFill>
                <a:latin typeface="Lucida Sans Unicode"/>
              </a:rPr>
              <a:t>Ž</a:t>
            </a:r>
            <a:r>
              <a:rPr b="0" lang="en-US" sz="6000" spc="-1" strike="noStrike">
                <a:solidFill>
                  <a:srgbClr val="000000"/>
                </a:solidFill>
                <a:latin typeface="Lucida Sans Unicode"/>
              </a:rPr>
              <a:t>NJI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kazatelji profitabilnosti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Profitabilnost investicij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opa prinosa na ukupna poslovna sredstv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opa neto prinosa na ukupna poslovna sredstv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opa prinosa na sopstvena sredstv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Profitabilnost u odnosu na prihod od prodaj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opa 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marže pokrić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opa 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poslovne dobit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Stopa neto dobit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u Pont analiz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ofitabilnost u odnosu na prihod od proda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Object 6"/>
          <p:cNvGraphicFramePr/>
          <p:nvPr/>
        </p:nvGraphicFramePr>
        <p:xfrm>
          <a:off x="0" y="2895480"/>
          <a:ext cx="9164520" cy="10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95480"/>
                    <a:ext cx="9164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0" name="Content Placeholder 3"/>
          <p:cNvGraphicFramePr/>
          <p:nvPr/>
        </p:nvGraphicFramePr>
        <p:xfrm>
          <a:off x="304920" y="1523880"/>
          <a:ext cx="8305560" cy="189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Content Placeholder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830556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2"/>
          <p:cNvGraphicFramePr/>
          <p:nvPr/>
        </p:nvGraphicFramePr>
        <p:xfrm>
          <a:off x="762120" y="4114800"/>
          <a:ext cx="7653240" cy="99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4114800"/>
                    <a:ext cx="7653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ofitabilnost u odnosu na prihod od proda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1"/>
          <p:cNvGraphicFramePr/>
          <p:nvPr/>
        </p:nvGraphicFramePr>
        <p:xfrm>
          <a:off x="0" y="2895480"/>
          <a:ext cx="9163080" cy="10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7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95480"/>
                    <a:ext cx="91630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Content Placeholder 3"/>
          <p:cNvGraphicFramePr/>
          <p:nvPr/>
        </p:nvGraphicFramePr>
        <p:xfrm>
          <a:off x="304920" y="1523880"/>
          <a:ext cx="8305560" cy="189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Content Placeholder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830556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380880" y="4191120"/>
          <a:ext cx="8437680" cy="90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4191120"/>
                    <a:ext cx="843768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ofitabilnost u odnosu na prihod od proda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Object 2"/>
          <p:cNvGraphicFramePr/>
          <p:nvPr/>
        </p:nvGraphicFramePr>
        <p:xfrm>
          <a:off x="0" y="2895480"/>
          <a:ext cx="9163080" cy="10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95480"/>
                    <a:ext cx="91630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Content Placeholder 3"/>
          <p:cNvGraphicFramePr/>
          <p:nvPr/>
        </p:nvGraphicFramePr>
        <p:xfrm>
          <a:off x="304920" y="1523880"/>
          <a:ext cx="8305560" cy="189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9" name="Content Placeholder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830556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3"/>
          <p:cNvGraphicFramePr/>
          <p:nvPr/>
        </p:nvGraphicFramePr>
        <p:xfrm>
          <a:off x="382680" y="4189320"/>
          <a:ext cx="8391600" cy="90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2680" y="4189320"/>
                    <a:ext cx="83916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9:29:08Z</dcterms:created>
  <dc:creator>Miki</dc:creator>
  <dc:description/>
  <dc:language>en-US</dc:language>
  <cp:lastModifiedBy>User</cp:lastModifiedBy>
  <dcterms:modified xsi:type="dcterms:W3CDTF">2019-02-19T13:18:20Z</dcterms:modified>
  <cp:revision>94</cp:revision>
  <dc:subject/>
  <dc:title>Finansijski menadzment</dc:title>
</cp:coreProperties>
</file>