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886-D81C-4E41-B962-B42D62ADA79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B7B-7062-4BC6-A796-D87F1F49C4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E65-F20C-4872-8803-4576025AA62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D48-E5E8-49C4-9AAE-68C924223F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FC7-80EB-45CF-A49A-BF18EA66CF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4E05-5AA2-4BC4-9C1C-9208A38DA9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F29-AFA7-40CD-BF61-80FA58269D4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B70-EC3A-4DA9-A221-B6E0EC602D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DF2-D943-45B7-996F-BBB7BD5053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1016-F390-46EB-A129-98A4C3E423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365-B3AE-4BE1-B256-7CD5C7E1B96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4353-E6AD-4DF8-BDC5-CFE51F8E0F2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06B8-E717-4490-9808-A6E3D92B8ED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FB6-D567-4510-AC8A-F67F422E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A15-B3ED-46D4-B1B9-9114E59B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E08-9178-4D2C-ADB3-C381D32B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74A-8784-49D4-99AB-4502E28A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1AA-5D94-4C1F-83E8-30F0B1F3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D605-A0F0-41E1-9F5E-71C7844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65B0-14DE-4659-9FCF-CEA98779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39A-DAF5-4011-9E7B-B6EA05C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1F0-11CD-4FEC-A352-208D9D36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CD8F-D630-4818-8057-644523F4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D3DE-B52C-4658-93CE-F03D50B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E08-555D-4C3F-A95A-B9F5B3A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6294-6133-4310-A4E3-98E277B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B832-7A01-4ABB-9B78-04D9017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8B50-F2C6-481D-9CF1-D4A2C3E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9D65-FE32-445A-B6E0-24FAAF03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CA7A-FE7F-45A9-829D-F33D6B52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2AB3-A079-45E2-82C7-B891DF37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AAB6-E421-4C58-812B-E59D6B09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AD5E-2571-47FE-AD06-309719F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D972-565E-4E6A-B186-7B437F2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628D-EF52-4A09-90C8-57DDE4E1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DCD-D8B6-423E-AB85-2083E029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9B1C-9632-46AD-BE79-0191B194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21C5-6B21-4834-9686-E30F168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F096-DFEE-4B42-B650-E592915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1419-6941-4E27-9CB3-79A425D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7161-5CB3-4C67-B903-8ADDE6CC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D87A-EF44-4C24-B666-A3DAB8A0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E8E5-5681-4CDD-A5D6-C1B48184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E401-81C1-4191-B2CB-2A1F349E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4B38-8EFD-4568-8127-D03E6B51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DCD7-1E63-4BAA-80E3-E9618479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DA4-A5C4-4BF1-80BF-1A3EAAE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5BCE-103A-44EA-9619-D054D0D0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FBF4-F0EE-44A1-A7FF-A61E7D9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1C71-4C13-4033-A780-DED6A22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7EA2-3602-427D-A001-D0E03FD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00EF-D1D8-4BF5-AD48-51754488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C919-858C-4A2E-B6FC-EA8D294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B088-35C1-4521-8E92-3EDCC137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319E-1EB0-40F4-9242-3D57AF31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230A-57A7-4806-89EB-04EE9E6E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AAB5-556B-419F-A24B-719E3C3B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996-3AC5-4B1D-86AA-370E7F6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D29B3-7119-4D9B-9E60-AC1BF92E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4610-5B3C-4A9A-82B6-7A038864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E89C-E8D1-494E-82D7-8F26B48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F67D-8B25-4252-AEBA-F7B80970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4371-6CBD-4EDA-9DBF-E981ECC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412C-226F-423E-87FC-7A5D76B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2CD8-CB54-430C-916D-B4F7ABDF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F6B7-DAD6-4F56-97F4-64F79A5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4814-C36C-4223-AB30-36BD2A9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CA0E-547E-43B5-9762-4976AB38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E86-9672-439B-BD9F-0A20B01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6D9E-FE77-4313-93A4-98D8A798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9C7A4-BE57-42DF-9CCB-42523D08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6EC5D-AF98-4734-936A-D7B2809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7F9E-3C47-4149-B795-2E662C5D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4A8E-2B96-48A8-9D05-062F7FEF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3D311-9EFF-4448-B50C-04133DF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7AD7A-1917-49B4-831C-520F3BF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A0FB-DB70-463C-B108-6280512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2350-C7E8-48B2-BFF9-F428524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950E-B52E-4A32-A300-0EA9C34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94F-7B18-4BFC-9262-5D08D9E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A74B-EAB1-4EC4-B974-F1DB4C2A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A030-EE3C-42C4-8EB1-83D1B08D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E2AB-8380-49A9-A233-80200116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AD0C-ED6A-4A87-9447-F5E4FD6E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2A21-0A21-40D4-A0E3-100161F8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4F41-1D31-42AF-8ECA-52C841B7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10BCA-C777-4CE3-8595-9953708E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355AE-4C4C-4469-93A2-43393ABE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A464-6CBF-4CFD-8A69-014F0D8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FF865-3608-4E2C-8535-33871A1C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46A-8C1A-45B8-AB2A-ED2710F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F758-AC3A-4B08-ABB7-707B213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0AD9-6EB4-451D-8FB8-6B09AAF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544D-75D3-4940-AC81-3804D495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970C-9FAA-4D69-AE35-1A3FE16F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EE52-CC74-4BE4-85B7-472F09A3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AA644-C800-4BA9-A20D-A931BFE9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17600-CD3E-4D2F-8593-13C7BA94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7DEFF-8B6A-4FA6-BA4F-9FD2CEDD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DED6F-7DC9-4C51-B155-76E8841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E500-EF6E-4D06-B043-E3E90A6C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3A9-7923-4848-9952-63CFEDC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3D81D-57FF-4D6C-A7E6-DDC0F06A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C53AE-865E-482C-9E1D-9D7E29C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43F2-05DF-4D6B-AF98-5BA77D6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18475-89D4-4CE0-B7D5-D36DDC9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491E-96B4-4543-9474-0EB069A6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6BD8-9676-456F-8021-385C0779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7E84-2EA0-4757-9977-9085673F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26EC-3BC6-4015-87A0-686DF7BDC5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A2D-15AC-4D75-A23B-258F379F40F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4A3-2C04-4F6B-8228-10149D78B17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05B0-E8E8-4135-890F-9CB1ED16EC1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1F9B-EB4E-4CA6-B43B-C9775076738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5293-38EF-4035-81D6-6A066F2ABEF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551-A147-40E7-B66D-8009B0D745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112-A967-4BA1-B645-35C243EBC6D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inansijska analiza 1. d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to obrtna sredstva (net working capital), neto obrtni f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533520" y="3429000"/>
                <a:ext cx="81691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o  obrtna  sredstv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brtna  sredstva - kratkorocne obave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o  obrtna  sredstv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gorocni izvori - stalna imovi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0" name="Content Placeholder 3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85664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141120" y="3863880"/>
                <a:ext cx="881712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o  obrtna  sredstv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brtna  sredstva - kratkorocne obaveze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0,000 - 9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8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HVALA NA PAZNJI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ansijski pokazatelji (finansijski koeficijenti, racio brojevi, eng. financial ratio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kazatelji likvid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kazatelji aktivnosti (obrta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kazatelji finansijske strukture (zaduzenost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kazatelji profitabil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kazatelji trzisne vrijed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kazatelji likvid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kvidnost – kratkoro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 ravnotez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ugoro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čna imovina                   Dugoročni izvo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Kratkoročna imovina                 Kratkoročni izvo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i racio likvid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igorozni racio likvid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enutni racio likvidnost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to obrtna sredstv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1219320" y="2895480"/>
            <a:ext cx="6476760" cy="0"/>
          </a:xfrm>
          <a:prstGeom prst="line">
            <a:avLst/>
          </a:prstGeom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6"/>
          <p:cNvSpPr/>
          <p:nvPr/>
        </p:nvSpPr>
        <p:spPr>
          <a:xfrm>
            <a:off x="4419720" y="2895480"/>
            <a:ext cx="0" cy="1676520"/>
          </a:xfrm>
          <a:prstGeom prst="line">
            <a:avLst/>
          </a:prstGeom>
          <a:ln w="93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Arrow 9"/>
          <p:cNvSpPr/>
          <p:nvPr/>
        </p:nvSpPr>
        <p:spPr>
          <a:xfrm>
            <a:off x="4038480" y="3581280"/>
            <a:ext cx="838440" cy="15264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eft Arrow 13"/>
          <p:cNvSpPr/>
          <p:nvPr/>
        </p:nvSpPr>
        <p:spPr>
          <a:xfrm>
            <a:off x="3962520" y="3200400"/>
            <a:ext cx="914400" cy="15228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353880" y="42696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sti racio likvidnosti (pokazatelj tekuce likvidnosti, current liquidity rati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488880" y="3352680"/>
                <a:ext cx="77439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sti  racio  likvidnost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rtna  sredstv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ratkorocne  obave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85664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406440" y="3733920"/>
                <a:ext cx="795024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psti  racio likvidnost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brtna  sredstv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ratkorocne  obaveze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,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3" name="Title 2" descr=""/>
          <p:cNvPicPr/>
          <p:nvPr/>
        </p:nvPicPr>
        <p:blipFill>
          <a:blip r:embed="rId2"/>
          <a:stretch/>
        </p:blipFill>
        <p:spPr>
          <a:xfrm>
            <a:off x="353880" y="42696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gorozni racio likvidnosti (acid test rati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"/>
              <p:cNvSpPr txBox="1"/>
              <p:nvPr/>
            </p:nvSpPr>
            <p:spPr>
              <a:xfrm>
                <a:off x="79200" y="2819520"/>
                <a:ext cx="912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gorozni racio  likvidnost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ikvidna  sredstv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ratkorocne  obavez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ikvidna  sredstv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kupc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otovin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k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OV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k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poziti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Content Placeholder 3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85664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66600" y="3733920"/>
                <a:ext cx="86313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gorozni  racio likvidnost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ikvidna  sredstv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ratkorocne  obaveze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,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nutni racio likvid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914400" y="3124080"/>
                <a:ext cx="716292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enutni  racio  likvidnost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otovina i goto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ratkorocne  obavez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tovinski ekvivalenti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k, depozitni sertifika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85664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219240" y="3733920"/>
                <a:ext cx="832464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enutni racio likvidnost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otovina i goto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ratkorocne  obaveze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,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,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8:10:01Z</dcterms:created>
  <dc:creator>Miki</dc:creator>
  <dc:description/>
  <dc:language>en-US</dc:language>
  <cp:lastModifiedBy>User</cp:lastModifiedBy>
  <dcterms:modified xsi:type="dcterms:W3CDTF">2019-02-19T13:10:30Z</dcterms:modified>
  <cp:revision>34</cp:revision>
  <dc:subject/>
  <dc:title>Finansijski menadzment</dc:title>
</cp:coreProperties>
</file>