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2357-AECE-4041-9C64-56D91109471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3142-3237-4261-8D6A-1229120AEA3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7199-E2D3-4297-9AD8-64E7BFC4D95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509-5BF1-41C5-B49F-AC3305FAA56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A978-7F97-447C-94E3-6B188CC5B6B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F5C7-B62F-44AB-AB0B-A0003F3C8B6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3CD5-E74B-42AF-8EC5-EF1214E76AB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6BD6-EBFB-44BD-958C-DCA7BC7B813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8EE9-62E7-4FC0-BE05-08256476276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BF34-39FF-4F16-A343-7D82745C882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1EC4-267B-4469-B3D5-4EA25A021FE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9196-39F9-42F7-835F-B15371787F1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EE24-7A82-4BC5-87DB-CE2C620FF1E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57EA-0813-400A-8B57-1F93C1C11B4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4ECD-29B7-4E29-B55A-BC47D225777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2CA-3E8A-4009-A5A9-85AB8E2D14A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7E2E-C8D3-470D-AD44-3C0C5C88DA0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0EC-A54C-4DF4-89E0-2C844ECD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327-E05A-4714-BC0D-FCA18A89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9B9-A412-476B-A728-3ECFC420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35D-78A3-414D-B290-8EDE73BD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18BA-C402-4984-9EFF-7C1F7E7B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D33D-3085-4955-9DCB-E15F3A31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E5D3-0A11-4139-8DB9-A84B399B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5986-241E-47EC-8B68-B44178B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CC97-F59E-438D-9F4C-EFE9C67E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1297-1031-4645-B520-B6968894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B51C-0D37-4CCE-A8BB-1FE1B9E6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874-27BC-40EA-ABA2-A91F47EA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0110-879E-4090-BCE5-3E9BF8B0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7D6B-D4AF-4909-A875-E3796150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0CA4-EE7C-40CF-8435-54F070E5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E7C6-2B05-4E6C-8DD3-08ED3B26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AC6-80D6-4FE5-8FBE-B1DE8B9D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4A98-320A-4881-B5C1-DBD255D4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C233-42D3-4EDD-A075-27E5E9C7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1363-1D49-40B6-A0F1-5F62AD2E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FE75-4056-434B-A2A2-04C1CA68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0054-63A8-4481-85BF-F07F840F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6F6-FC62-4112-AD36-49004138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0F99-E83C-4636-9F29-3ABB300F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4CAA-5E12-4821-9E01-59E9773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545A-83A1-44ED-857A-0659A2D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456F-AF3C-4D08-945A-AC4FB2ED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CADD-1C8F-453B-8AD0-BCC971ED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7145-0B9A-4DC1-8D62-85479228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06AD-531E-4196-A0A3-31AE2D0A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DB253-12D1-4134-8752-A8EC898C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4CA2-D780-4D48-93BF-CAA933B6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F584E-A82B-4BEF-9925-D3398F15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8D2-7B57-4AB4-8C13-C0DDE81A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0DAE-E3B9-4870-BD00-3E901826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C456-9CEF-4635-AEA2-02198E5C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DA5D-9577-46E5-9FF2-03673460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41C7-97CF-4DBA-AC02-07035C45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4E2F6-FCFF-4701-8587-E6ADD40A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E3F6-799A-483E-AD7A-349C526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EB14-66F1-4FC3-852F-77EC5934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CEF61-4DA1-4B63-8FA3-050AC97F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EA66-EB9C-4A0D-BF46-0C0367F7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744B1-57EA-4638-BA47-ADC27320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098-96D8-4949-9598-F3B3AD10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A50B4-1621-4D26-99DD-BC2C50A1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6935-B77E-4895-AC3A-50A58478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CC3AF-3DB3-4B56-B0A5-E9DDD309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E325-63BB-40AD-B6EE-CF495432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2115D-99A2-4418-9E14-4F21D637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6D07-F4C8-4184-B05D-D6B09C1E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86D9A-3098-4462-89D0-9AB336C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E6D4-684C-46A8-AB76-98933597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4CB77-2BD5-45F1-8723-D68A4727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FED0-2ACE-4584-B98F-63177BCD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48E-B8BB-48B0-B530-9A77AEEB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C05E-588C-4959-8D70-00383C60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CF1A1-441B-4223-9D00-9E2388B5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E5762-BC67-4A77-81D8-74F169A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ED6AB-525C-4407-9E80-6FAA6F19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A5AB9-4AAF-4716-AC53-4A45BEFC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4C5BF-4085-40EB-A116-2C992A53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F32E4-A3A5-4917-BD1C-969149C8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21A0-560C-4EE0-A6D0-603B4269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99924-3AC3-4E7D-B2F9-97EF4DF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6A767-9017-41AA-91B1-EFFD0781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AFC-FF86-402D-8395-B579D56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4350C-DA7C-4057-AB0E-55D72EA9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FB244-9242-481A-8033-317C6EDD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3CE7-5992-4B28-81AC-37E82DC1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1B634-33E0-4A91-8E74-0A5B90DE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EB3E3-0BDC-4F92-9F1D-F03B96E9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9839-B05C-4D10-BA75-537568F6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1C96-8EC3-43BE-B49A-E136A74C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F3EBA-1A59-4853-9319-6E1C235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B03E3-4D12-4900-8198-21CBC8D4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2A2E9-02C6-4215-A5B4-29665808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F06-94F3-4BF1-8974-79E2AC9E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962D4-589D-4C6A-8E44-F314DD6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88239-B38B-4CD2-B886-3F5A84FE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38667-3981-4083-8208-46B82DFB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03A7D-BACB-40C2-B5D5-B22DB1D1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5916A-B937-4CD8-9765-455735ED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82A-47FF-431F-8961-7C8E68D3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5F3A-9A5E-4449-84E4-DED22938CA2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7198-FCFE-42F1-B9D1-E85F1D2E03A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E182-0815-4DBA-B3D8-213AE814949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2515-1BF9-462F-9E99-8B25549348B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8C10-E5C7-4D6E-A4FF-17F15C042A2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1FF-2869-4CDC-A8B9-61444CA90965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9A02-4F55-4C12-9B0A-035A0D65DB6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48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a analiza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a analiza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User</cp:lastModifiedBy>
  <dcterms:modified xsi:type="dcterms:W3CDTF">2019-02-19T13:33:21Z</dcterms:modified>
  <cp:revision>94</cp:revision>
  <dc:subject/>
  <dc:title>Finansijski menadžment</dc:title>
</cp:coreProperties>
</file>