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FE08-82F7-4FBA-A37F-2950E7AF6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D592-BC48-474D-9F29-8110DE3B0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EFD1-068B-48FF-BA85-95B8F3CD0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6FB-6E89-4673-9DEE-68126471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480-F20E-4C67-8473-365FCDEC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569-F4D4-4750-BB60-A07C08D9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5BB-A645-4F66-AAE6-2CC523A9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22AB-2E13-4A10-9827-CBBC64D2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F8F0-30F8-4AB4-9160-D50EB082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3AC1-CD62-4233-BDF5-E2B2CFE7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84EB-D373-440A-8EB7-8D3E232F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A12A-3A15-4163-85BF-723A8836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9AC7-6CCE-4EEB-A6FF-35A31971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E068-401E-4926-B89E-D01E888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2D7-0E83-447A-AA2F-3EA2571B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3719-7729-4B2F-AE2B-0F6A1A64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D357-38D4-42AE-8530-1E3B8AAB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F27A-E244-4FE0-98B4-D71DFD08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8300-E4A6-46E9-B72D-7198B436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B40D-1B5D-4414-A889-DEBFBCC7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9360-D68C-4960-B2EB-B5B50887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3DA1-7D68-4723-A729-128711ED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7707-807B-4207-8CCB-D2275E22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2DBB-FE41-420F-A127-40099D15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D9E2-EB14-4A61-A13A-CB34AFC6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7E8-EE1B-439C-A446-9150A898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AE6C-55BF-4F6B-8048-FEBC11F8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0756-3B5C-48B3-ABF6-F402F44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F9915-F619-496F-86A1-02DF4DF1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CACC-6B86-4AA0-99D1-2775535C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2741-2EB3-4D50-8CF5-E80FD306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09F06-CABB-4223-9D90-C908343A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E206-F65C-4B3C-965C-09D78F26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395-CFB8-4768-8878-B70DC66A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147-DAEB-4F4A-8F2E-88EF772C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9CF-1A97-4C3A-9566-CC01F231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FE7-CF7E-47BD-ACA9-FDF2FAEE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DB8-DDE9-4491-B623-B4824233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B9A-0758-443F-BCE8-2896525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6AD1-49B9-4CB2-A2FD-11EA115B443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31FA-1EA7-41EE-9AB6-3857EEB91A4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95959"/>
                </a:solidFill>
                <a:latin typeface="Century Gothic"/>
              </a:rPr>
              <a:t>Copyright Sasa Popović, Ekonomski fakultet, Podgo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910A-FB3F-4D2E-9BBD-BA19100B4E82}" type="slidenum">
              <a:rPr b="0" lang="sr-Latn-C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500" spc="-1" strike="noStrike">
                <a:solidFill>
                  <a:srgbClr val="0000ff"/>
                </a:solidFill>
                <a:latin typeface="Palatino Linotype"/>
              </a:rPr>
              <a:t>U</a:t>
            </a:r>
            <a:r>
              <a:rPr b="1" lang="en-US" sz="2500" spc="-1" strike="noStrike">
                <a:solidFill>
                  <a:srgbClr val="0000ff"/>
                </a:solidFill>
                <a:latin typeface="Palatino Linotype"/>
              </a:rPr>
              <a:t>niverzitet Crne Gore</a:t>
            </a:r>
            <a:br>
              <a:rPr sz="2500"/>
            </a:br>
            <a:r>
              <a:rPr b="1" lang="sr-Latn-ME" sz="2500" spc="-1" strike="noStrike">
                <a:solidFill>
                  <a:srgbClr val="0000ff"/>
                </a:solidFill>
                <a:latin typeface="Palatino Linotype"/>
              </a:rPr>
              <a:t>Pomorski fakultet, Kotor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sr-Latn-ME" sz="2800" spc="-1" strike="noStrike">
                <a:solidFill>
                  <a:srgbClr val="0000ff"/>
                </a:solidFill>
                <a:latin typeface="Palatino Linotype"/>
              </a:rPr>
              <a:t>FINANSIJE U POMORSTVU</a:t>
            </a:r>
            <a:br>
              <a:rPr sz="3100"/>
            </a:br>
            <a:r>
              <a:rPr b="1" lang="sr-BA" sz="1800" spc="-1" strike="noStrike">
                <a:solidFill>
                  <a:srgbClr val="0000ff"/>
                </a:solidFill>
                <a:latin typeface="Palatino Linotype"/>
              </a:rPr>
              <a:t> U</a:t>
            </a:r>
            <a:r>
              <a:rPr b="1" lang="en-US" sz="1800" spc="-1" strike="noStrike">
                <a:solidFill>
                  <a:srgbClr val="0000ff"/>
                </a:solidFill>
                <a:latin typeface="Palatino Linotype"/>
              </a:rPr>
              <a:t>vodne informacije o predmetu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sr-Latn-ME" sz="2200" spc="-1" strike="noStrike">
                <a:solidFill>
                  <a:srgbClr val="0000ff"/>
                </a:solidFill>
                <a:latin typeface="Palatino Linotype"/>
              </a:rPr>
              <a:t>D</a:t>
            </a:r>
            <a:r>
              <a:rPr b="1" lang="en-US" sz="2200" spc="-1" strike="noStrike">
                <a:solidFill>
                  <a:srgbClr val="0000ff"/>
                </a:solidFill>
                <a:latin typeface="Palatino Linotype"/>
              </a:rPr>
              <a:t>r Ana Mugoša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2f5897"/>
                </a:solidFill>
                <a:latin typeface="Palatino Linotype"/>
              </a:rPr>
              <a:t>Osnove informacije o predmetu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33520" y="1752480"/>
          <a:ext cx="7981920" cy="15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98192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6"/>
          <p:cNvSpPr/>
          <p:nvPr/>
        </p:nvSpPr>
        <p:spPr>
          <a:xfrm>
            <a:off x="1355760" y="3922560"/>
            <a:ext cx="42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25440" y="3276720"/>
            <a:ext cx="883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davač: Dr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Ana Mugoš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snovna litera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snove finansijskog menad</a:t>
            </a:r>
            <a:r>
              <a:rPr b="0" i="1" lang="sr-Latn-ME" sz="1800" spc="-1" strike="noStrike" u="sng">
                <a:solidFill>
                  <a:srgbClr val="000000"/>
                </a:solidFill>
                <a:uFillTx/>
                <a:latin typeface="Calibri"/>
              </a:rPr>
              <a:t>ž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enta, Van Horne i Wachowicz</a:t>
            </a:r>
            <a:r>
              <a:rPr b="0" i="1" lang="sr-Latn-ME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sr-Latn-ME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ME" sz="1600" spc="-1" strike="noStrike">
                <a:solidFill>
                  <a:srgbClr val="000000"/>
                </a:solidFill>
                <a:latin typeface="Calibri"/>
              </a:rPr>
              <a:t>preuzet dio koji se odnosi na Finansijsko izvještavanje i Evaluaciju investicija</a:t>
            </a:r>
            <a:r>
              <a:rPr b="0" i="1" lang="sr-Latn-ME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800" spc="-1" strike="noStrike" u="sng">
                <a:solidFill>
                  <a:srgbClr val="000000"/>
                </a:solidFill>
                <a:uFillTx/>
                <a:latin typeface="Calibri"/>
              </a:rPr>
              <a:t>Pomorske finansije, Ranka Krivokapić (</a:t>
            </a:r>
            <a:r>
              <a:rPr b="0" lang="sr-Latn-ME" sz="1600" spc="-1" strike="noStrike">
                <a:solidFill>
                  <a:srgbClr val="000000"/>
                </a:solidFill>
                <a:latin typeface="Calibri"/>
              </a:rPr>
              <a:t>finansiranje nabavke brodova i osiguranje</a:t>
            </a:r>
            <a:r>
              <a:rPr b="0" i="1" lang="sr-Latn-ME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 sva dodatna pitanja možete se obratiti na mail </a:t>
            </a:r>
            <a:r>
              <a:rPr b="0" lang="pl-PL" sz="1800" spc="-1" strike="noStrike">
                <a:solidFill>
                  <a:srgbClr val="0033cc"/>
                </a:solidFill>
                <a:latin typeface="Calibri"/>
              </a:rPr>
              <a:t>ana.mugosa@ucg.ac.m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2f5897"/>
                </a:solidFill>
                <a:latin typeface="Palatino Linotype"/>
              </a:rPr>
              <a:t>Informaciona lista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457200" y="914400"/>
          <a:ext cx="822960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2296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200" spc="-1" strike="noStrike">
                <a:solidFill>
                  <a:srgbClr val="2f5897"/>
                </a:solidFill>
                <a:latin typeface="Palatino Linotype"/>
              </a:rPr>
              <a:t>Oblici provjere znanja i ocjenjivanje</a:t>
            </a:r>
            <a:r>
              <a:rPr b="0" lang="sr-Latn-CS" sz="2000" spc="-1" strike="noStrike">
                <a:solidFill>
                  <a:srgbClr val="2f5897"/>
                </a:solidFill>
                <a:latin typeface="Palatino Linotyp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7f7f7f"/>
                </a:solidFill>
                <a:latin typeface="Century Gothic"/>
              </a:rPr>
              <a:t>Test                                   60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 poena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(multiple choice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Praktični rad                    35 poena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Aktivnost na času            5  poena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  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UKUPNO</a:t>
            </a: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              </a:t>
            </a:r>
            <a:r>
              <a:rPr b="1" lang="sr-Latn-ME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sr-Latn-ME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1</a:t>
            </a: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00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 poen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4191120"/>
          <a:ext cx="7924680" cy="102060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  <a:gridCol w="1320840"/>
                <a:gridCol w="1320840"/>
                <a:gridCol w="132084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o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-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f5897"/>
                </a:solidFill>
                <a:latin typeface="Palatino Linotype"/>
              </a:rPr>
              <a:t>Terminski plan ispitnih obaveza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789120" y="2517840"/>
          <a:ext cx="8135640" cy="204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2517840"/>
                    <a:ext cx="813564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8:09:47Z</dcterms:created>
  <dc:creator>User</dc:creator>
  <dc:description/>
  <dc:language>en-US</dc:language>
  <cp:lastModifiedBy>User</cp:lastModifiedBy>
  <dcterms:modified xsi:type="dcterms:W3CDTF">2019-02-19T13:04:10Z</dcterms:modified>
  <cp:revision>24</cp:revision>
  <dc:subject/>
  <dc:title>Univerzitet Crne Gore Ekonomski fakultet   FINANSIJSKI MENADŽMENT  Uvodne informacije o predmetu     Prof. dr Saša Popović Mr Ana Mugoša</dc:title>
</cp:coreProperties>
</file>