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3.wmf" ContentType="image/x-wmf"/>
  <Override PartName="/ppt/media/image1.png" ContentType="image/png"/>
  <Override PartName="/ppt/media/image24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E060-A850-4923-A320-5345EE564E2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DF0E-55F2-448A-99B3-F122A6407D3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EFC2-C63C-4B24-BCB6-59865AB43A9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6E0B-EFE0-4C1E-85F8-934EA27E23B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39A3-BF42-4392-AE5B-28611EC97AE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D5DF-3959-4DBB-9BF7-84F565F49E3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5CB3-868F-4FB5-83BE-0E44FB5B4F9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072E-B3B0-40FF-86B3-485F5E5665C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4C75-09A6-4581-A641-D6B03A2E67C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4435-47C6-451B-AA3F-CE7E2710E99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2CDA-EF3A-40F4-B4BE-55601C017FA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D55B-ED8C-4595-A5E7-7D68D03CAA6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DA89-FB1B-4D51-AA69-1125D319ED7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AA42-17C4-4F5A-BEEE-6A9BD81B3A9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BE60-24B4-4C1D-8A94-81290385CF7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5D0C-43B2-4C17-B0C3-78C0B6F4E3C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82B4-8541-4FA7-AA74-4DB53677DBB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1211-5A55-457F-BCEF-F3B3B9AE577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FA2-888D-4D8B-851A-0CED2D8F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8C0-E2DB-4642-9C57-8AABFE96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46F-9248-41A6-81B0-69A8616F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508-1844-40AD-A17F-4BDFB516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39B1-1FF7-4E7A-9247-65D375E8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FB77-BA3C-44A3-9DA4-5D57710B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98F4-FC68-48FB-A8E8-B0D2FB14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A2D1-E569-45E7-9A32-3BB0A9EB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B442-1944-45AF-8BFC-B0232565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1887-62EE-47CC-BA8F-372FDB23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B099-910B-4922-B584-FCC9E69A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175-5E12-4D68-BE21-787204F4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12FD-2FF3-4BBD-8F59-E1539699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7C69-E209-46E3-B5A0-43936819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9E4E-5925-4B2B-8B57-91465902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C2B8-6E2D-47F3-AE1D-1CBA2F92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A8D5-F717-4860-838E-FFB50DA8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7957-24BA-4F5A-A696-910647CC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7556-957A-425B-BE6D-E3C07D84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B336-298A-4F06-84D0-84A09E04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CB581-DDA6-4FF4-BE0B-1A4252A3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515C1-999C-40DD-9F29-ECA30000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FBA-2116-4741-BF32-6543DD91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6F601-C605-4BDE-A7A2-A5D73002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CA80-BF11-478C-9586-2690460C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3CE4-0929-42F7-833F-30CC0A20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8416-AA48-4D51-A9F0-7251CF1D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7797-740B-4F4C-82EC-09F6A800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FA89-FC0D-4913-AA07-0AD823F8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3953-906D-44AB-996D-D53F1571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44263-C185-4E02-95F3-50D41F94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17D8-26F8-4C21-AD3E-619C9781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C765D-3DD7-49FC-8E83-C7C8737F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745-46B7-418A-A59F-7473E337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92069-E7F9-4F36-B972-0331562A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02B4C-C7FD-4BD4-9E8F-3075C259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7AD8-5FE9-468E-AA58-1AA249D2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4C0F-4EFF-4F17-A9B1-E69184B0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7D0E9-BB8C-4AF7-895B-F342BC50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BC372-F140-4959-807E-AF469399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8BBCA-DF15-4398-9F04-78E134C0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B563-6AA6-42F2-96D6-2B5504A4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FE915-65E9-45BA-BB24-1E621C0E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7267C-DA7E-4508-87E4-01641CA3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5E1-9422-4E61-BC0B-96578C00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E8331-B3A8-4406-87E6-398E672F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89757-3C08-4085-93B8-7BC0009B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F67BA-B3AC-49D9-8CE0-E46BE4C4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7E829-74F0-45CF-892E-40707A73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06DF4-A4E1-47F5-ADAF-BDF6D686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54CCA-3F06-41C3-96B9-DCCF27C2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D3ACE-3707-43F0-8A18-233774E5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9F763-AEFE-43AB-8E89-A574198C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A4470-3DFE-48B2-8621-AF106FB4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C447-8462-4220-9EC1-AA8781B1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8DB-07E7-4918-88C4-337E7005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3E7C6-FF96-4ADA-850E-E9A77B8C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3FEFE-3D63-49E4-9A8F-9FA47C52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B7A5B-9B74-4116-BE06-5204DEE0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5CF10-4DC3-4F0A-A83A-3245521A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DEDCC-FF1C-43D6-9780-310F61F0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753A7-9D31-41B7-8532-61B1EC93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331A7-F65A-4205-85CD-6CD82E09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1C291-90B8-45BF-8467-26FA061C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7AA0D-82AE-42E0-B373-A4CFC43E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C26B9-7C50-4A1C-8DC9-1F1DBE13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4B8-D5A5-4022-B85B-92BA83F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BCA32-D603-4EF2-ADAB-A900AB2C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8F1FD-DC54-4D2C-B176-4A29B358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90E5C-5E61-4B5F-82F3-6A3DFE34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97E1F-4E5C-4E3B-BCC9-69E4D989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7D7EF-003C-4481-8487-2E15B544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3D3DC-2466-4525-8364-690536F4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BF40E-DD27-4A6B-A792-CF46147C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6EF3E-1C88-47CD-90B7-3181D5A1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86629-B102-475C-879A-45F7291A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43B04-3BDA-44B9-8467-A532C68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784-A5E5-4082-B6A8-E10B648A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2C83D-2FEB-4059-AD80-467BAC2B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A4A13-F0B5-48B8-B473-2458E6D4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520E0-E62E-497D-BE27-3912C339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AAAEB-0E73-4BC5-82B7-84270CB4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FFC66-E950-47E8-9684-B20D682B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7764F-FDBE-446F-A866-A03C44BF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D30F5-1955-4476-9385-1EB7503E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B44B4-E67F-49D1-8EF0-E886D34C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8E66B-61E6-472B-8E79-59E3BE91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19AB9-BF1D-4CDF-8A9C-CC79BA2B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2D3-B81D-484D-B74E-7DC1049A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99190-0EF4-46EB-8AEF-85E05C87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619EF-D600-4F73-8DD9-510B59B1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AE77D-FD5D-4FE4-A192-4A2850CC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E2BE5-6794-4AF6-BB2F-EC20C264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4D598-01A9-4C3B-AA7C-101D1EF1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8ADDE-F184-4FB7-AA55-14F3EA2F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3BEA0-0BBA-4730-BCA0-A864708C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CEE0-6843-446B-966C-2BA5117DB84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864A-61F6-48E9-8A5D-C42A4BA2CED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98F9-1E32-43C1-A9C3-80C05884912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F8B9-D6F1-446D-9A10-2618DAA238B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E0D3-A2A2-4F9C-8804-1F07901E3BF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84FD-1ADB-4481-BD25-349C31D56C8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3D51-8CAA-444F-BAE5-90788141059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1944-3B33-494B-88F2-FFAE3A06516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0.png"/><Relationship Id="rId33" Type="http://schemas.openxmlformats.org/officeDocument/2006/relationships/image" Target="../media/image20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0.png"/><Relationship Id="rId37" Type="http://schemas.openxmlformats.org/officeDocument/2006/relationships/image" Target="../media/image20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0.png"/><Relationship Id="rId33" Type="http://schemas.openxmlformats.org/officeDocument/2006/relationships/image" Target="../media/image20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0.png"/><Relationship Id="rId37" Type="http://schemas.openxmlformats.org/officeDocument/2006/relationships/image" Target="../media/image20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Rizic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3748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201600" y="225360"/>
            <a:ext cx="8485200" cy="119556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43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46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6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7000"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-219240" y="45720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Object 10"/>
          <p:cNvGraphicFramePr/>
          <p:nvPr/>
        </p:nvGraphicFramePr>
        <p:xfrm>
          <a:off x="-990720" y="2160720"/>
          <a:ext cx="10439640" cy="126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90720" y="2160720"/>
                    <a:ext cx="1043964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Box 1"/>
          <p:cNvSpPr/>
          <p:nvPr/>
        </p:nvSpPr>
        <p:spPr>
          <a:xfrm>
            <a:off x="228600" y="1752480"/>
            <a:ext cx="8001000" cy="368280"/>
          </a:xfrm>
          <a:prstGeom prst="rect">
            <a:avLst/>
          </a:prstGeom>
          <a:solidFill>
            <a:srgbClr val="a6d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000000"/>
                </a:solidFill>
                <a:latin typeface="Arial"/>
              </a:rPr>
              <a:t>Poslovni leverid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228600" y="3429000"/>
            <a:ext cx="8001000" cy="368280"/>
          </a:xfrm>
          <a:prstGeom prst="rect">
            <a:avLst/>
          </a:prstGeom>
          <a:solidFill>
            <a:srgbClr val="a6d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000000"/>
                </a:solidFill>
                <a:latin typeface="Arial"/>
              </a:rPr>
              <a:t>Finansijski leverid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2"/>
          <p:cNvGraphicFramePr/>
          <p:nvPr/>
        </p:nvGraphicFramePr>
        <p:xfrm>
          <a:off x="-228600" y="4191120"/>
          <a:ext cx="960120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4191120"/>
                    <a:ext cx="96012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49320" y="438120"/>
            <a:ext cx="8485200" cy="124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3" name="Object 5"/>
          <p:cNvGraphicFramePr/>
          <p:nvPr/>
        </p:nvGraphicFramePr>
        <p:xfrm>
          <a:off x="0" y="2438280"/>
          <a:ext cx="8534520" cy="92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38280"/>
                    <a:ext cx="85345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11"/>
          <p:cNvGraphicFramePr/>
          <p:nvPr/>
        </p:nvGraphicFramePr>
        <p:xfrm>
          <a:off x="347760" y="4191120"/>
          <a:ext cx="844848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7760" y="4191120"/>
                    <a:ext cx="8448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36360" y="-36360"/>
            <a:ext cx="942480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User</cp:lastModifiedBy>
  <dcterms:modified xsi:type="dcterms:W3CDTF">2019-02-19T13:32:02Z</dcterms:modified>
  <cp:revision>20</cp:revision>
  <dc:subject/>
  <dc:title>Finansijski menadzment</dc:title>
</cp:coreProperties>
</file>